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221E-FFA7-4B82-B510-26922CF7C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97E9-A09F-46FB-9FCE-0BDF43F51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42E8-8A75-4389-882E-E999867AA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1215-7105-4959-A51A-DA21BDBCA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9B90-9185-4670-820E-3D75A0CA4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53C5-4286-4DC4-B073-46A2860FE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0C73-D059-4992-A0B6-6528240AF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4A00-CE9F-4AE6-AC39-00922C93D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21D0-3E06-4C46-B573-163E63E7A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077F-6DB7-401A-A14C-B58A1FC76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CE4F-C1CA-40AA-B141-97A052F9D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942B-6365-4D8B-A684-264BF1413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C3F25-A57D-4855-9146-DD1B0A06EA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ebra 2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3: Addition and Subtraction of Rational Expr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tember 27,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f the LCD is harder to fi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-5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3x-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-5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-4)(x+1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+4)(x-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(x+4)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-5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x+1)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x+4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-4)(x+1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x+1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+4)(x-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-5x-20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8x+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3x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+4) (x-4)(x+1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+1)(x+4)(x-4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+4) (x-4)(x+1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3(x-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+4) (x-4)(x+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+4)(x+1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about subtrac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f a whole number is involv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x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x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(2x-1)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x-1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x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6x-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x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x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6x-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x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ing and subtracting rational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(x) = f(x) - g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(x) = f(x) + g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same steps as you used with adding and subtracting rational express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sure that your signs are 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 h(1) just means plug in x=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e means solve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will be able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and subtract rational expr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and subtract rational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ing and Subtracting fra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rder to be able to add or subtract straight across fraction, they must h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 same denominato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+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-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example with the same denomina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3-1+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3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5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f you can simplif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adding, if it is possible to simplify by factoring, please d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5x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5x+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5(x+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x+3)(x-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actice with the same denominator and simplify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6a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2a-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2a-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f the denominators are differ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you must find the least common denominator (LC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each denominator in completely factored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the LCD as a product of each prime factor to the highest power that appears in either denomin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x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*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xy = 2 * 3 * x *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CD must hav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* 3 *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CD = 12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 I use the LC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CD= 12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x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rewrite the each expression so the denominator is the LC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y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x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y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4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x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6x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9y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0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9y+10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14:41:35Z</dcterms:created>
  <dc:creator>nuhs</dc:creator>
  <dc:description/>
  <dc:language>en-US</dc:language>
  <cp:lastModifiedBy>nuhs</cp:lastModifiedBy>
  <dcterms:modified xsi:type="dcterms:W3CDTF">2007-09-27T19:22:28Z</dcterms:modified>
  <cp:revision>11</cp:revision>
  <dc:subject/>
  <dc:title>Algebra 2A</dc:title>
</cp:coreProperties>
</file>